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842A-9DB7-4331-8352-5D01312B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D532-A079-4D16-84E8-95940C95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6D2D-ECD4-47F1-B19C-DF7DA4B6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C09D-60E7-4146-8344-68FF8971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F246-4C17-49C1-B4A5-22AA3CB9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D0EE-F3D4-4516-841E-F26ABFF4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254D-3FEF-4024-A17B-5FE03DA6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220D-F0DF-4B79-A49C-9ADE3E29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EAEA-491D-4CEB-BCF1-16A1C537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CAB0-3218-4EC7-BEB0-0CCB8E73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DA94-124B-44C3-B2AC-45D748B7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AD17-F4D7-4331-9811-D48184F4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6CDD-5432-41E2-878C-1C10BFFFF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437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ENGEMBANG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-POLI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OLRESTA PADA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ATAR BELAK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6934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736560" indent="-50652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shelf Symbol 4" charset="2"/>
              <a:buChar char=""/>
              <a:tabLst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artisipasi PT.Telkom dalam Pembangunan nasional, salah satunya yaitu membangun prototype sistim informasi kepolisi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6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6560" indent="-50652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shelf Symbol 4" charset="2"/>
              <a:buChar char=""/>
              <a:tabLst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embangunan Sistim Informasi dilakukan astas kerjasama antara PT.Telkom (Divre I) dan institusi yang melaksanakan penelitian (Universita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51055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61880">
              <a:buClr>
                <a:srgbClr val="3333cc"/>
              </a:buClr>
              <a:buFont typeface="Bookshelf Symbol 4" charset="2"/>
              <a:buChar char=""/>
              <a:tabLst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eningkatkan kerjasama antara PT.Telkom (Divre I Sumatra)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engan Instansi Kepolisi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76120" y="4343400"/>
            <a:ext cx="31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UJUAN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59092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461880"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. Perangkat Server untuk Basis data  (satu unit Serv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2. Perangkat terminal untuk beberapa lokasi kantor kepoli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3.  Perangkat untuk jaringan k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5040" y="76212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UPPORT DARI PT TELK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6480" y="1957320"/>
            <a:ext cx="42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T Telkom akan membantu dalam hal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10666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NCANA PEMBANGUNAN APLIK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2313000"/>
            <a:ext cx="7162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. Diskusi dengan Polda Sumbar ( Polresta Padang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Untuk resource dan user requirement  (+/- 7 hari), meliputi :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. Struktur Organisas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b. Penentuan modul/field masing-masing mod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. Hirarkhi operasional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. Satuan tu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2. Pembangunan prototype aplikasi ( 3 bul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88200" y="1905120"/>
            <a:ext cx="478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. TAHAP PEMBANGUNAN APLIKA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46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3. Penyediaan perangkat dan instalasi (3 bul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.Terminal (PC) 12 unit dan mod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b.Server satu un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4. Field 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5. Evaluasi/Modifika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61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6. Implementa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533520" y="990720"/>
            <a:ext cx="6248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. TAHAP PEMBANGUNAN APLIKASI (Lanjutan 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Berita Kepolisian (Hot New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odul Operasi (Sabara; Inteligent; Brimob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odul Curas (Pencurian dan kekerasan), Kriminal dan Per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odul Kecelak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odul Logistik &amp; Keuan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odul Person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odul Layanan (SIM, STNK, BB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odul B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D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9528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. RENCANA MODUL OPERASIONAL KEPOLI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523880" y="2057400"/>
            <a:ext cx="4938840" cy="3612960"/>
            <a:chOff x="1523880" y="2057400"/>
            <a:chExt cx="4938840" cy="3612960"/>
          </a:xfrm>
        </p:grpSpPr>
        <p:sp>
          <p:nvSpPr>
            <p:cNvPr id="58" name=""/>
            <p:cNvSpPr/>
            <p:nvPr/>
          </p:nvSpPr>
          <p:spPr>
            <a:xfrm>
              <a:off x="1523880" y="3659400"/>
              <a:ext cx="731520" cy="27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12600" y="2470680"/>
              <a:ext cx="731520" cy="265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PST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16440" y="3019320"/>
              <a:ext cx="1554840" cy="27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KAPOLRESTA (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16440" y="5396400"/>
              <a:ext cx="1646280" cy="27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UM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2255400" y="2715840"/>
              <a:ext cx="2560680" cy="100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16440" y="2057400"/>
              <a:ext cx="1554840" cy="36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KAPOLDA (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16440" y="4939200"/>
              <a:ext cx="1554840" cy="27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KAPOLSEK (6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16440" y="2562120"/>
              <a:ext cx="1554840" cy="27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ASISTEN OPERASI (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2255400" y="2230200"/>
              <a:ext cx="2560680" cy="146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2255400" y="3201840"/>
              <a:ext cx="2560680" cy="54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2255400" y="3510360"/>
              <a:ext cx="256068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16440" y="3385080"/>
              <a:ext cx="1554840" cy="27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SATLANTAS (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16440" y="3842280"/>
              <a:ext cx="1554840" cy="27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BIMAS (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16440" y="4207680"/>
              <a:ext cx="1554840" cy="27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SABA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16440" y="4573440"/>
              <a:ext cx="1554840" cy="27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BRIMO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55400" y="3779280"/>
              <a:ext cx="25606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5400" y="3817440"/>
              <a:ext cx="2560680" cy="54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55400" y="3845880"/>
              <a:ext cx="256068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55400" y="3884040"/>
              <a:ext cx="2560680" cy="11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74600" y="1219320"/>
            <a:ext cx="55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. RENCANA KONFIGURASI SI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3733560" cy="1747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883240" y="1362240"/>
            <a:ext cx="28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ERIMA KASI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Windows98</cp:lastModifiedBy>
  <cp:lastPrinted>2001-11-26T05:22:12Z</cp:lastPrinted>
  <dcterms:modified xsi:type="dcterms:W3CDTF">2001-11-26T09:08:01Z</dcterms:modified>
  <cp:revision>13</cp:revision>
  <dc:subject/>
  <dc:title>No Slide Title</dc:title>
</cp:coreProperties>
</file>