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DB71-4658-4903-90CC-1F1BDC2E8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49BE-4E77-4910-A0DB-14C5E82C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BC80-7D41-4091-A99C-FF47078AB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D3C2-B859-4CDD-A016-B2A93BBA8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30FB-5402-4932-B3D9-421F5E4A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D6AD-E173-4672-8D3A-478FB240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A658-8F3E-4377-889E-D57E9EF0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C2CA-5508-481E-9639-070E9C5A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0730-2E24-4BF5-B14E-B728A9FE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8EA5-4C17-4D13-A2BD-1B0D855C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EA4A-3E31-49FE-861B-9DDB2B23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9FB3-EE71-4F97-AF45-E8E5481A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700D-687C-4A2E-A1DD-AE7DE96F2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24379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ENGEMBANGA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-POLIC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OLRESTA PADA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ATAR BELAK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69343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736560" indent="-50652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Bookshelf Symbol 4" charset="2"/>
              <a:buChar char=""/>
              <a:tabLst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artisipasi PT.Telkom dalam Pembangunan nasional, salah satunya yaitu membangun prototype sistim informasi kepolisia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65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6560" indent="-50652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Bookshelf Symbol 4" charset="2"/>
              <a:buChar char=""/>
              <a:tabLst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embangunan Sistim Informasi dilakukan astas kerjasama antara PT.Telkom (Divre I) dan institusi yang melaksanakan penelitian (Universita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51055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61880">
              <a:buClr>
                <a:srgbClr val="3333cc"/>
              </a:buClr>
              <a:buFont typeface="Bookshelf Symbol 4" charset="2"/>
              <a:buChar char=""/>
              <a:tabLst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Meningkatkan kerjasama antara PT.Telkom (Divre I Sumatra)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dengan Instansi Kepolisia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76120" y="4343400"/>
            <a:ext cx="317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UJUAN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59092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461880">
              <a:lnSpc>
                <a:spcPct val="100000"/>
              </a:lnSpc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1. Perangkat Server untuk Basis data  (satu unit Serv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61880">
              <a:lnSpc>
                <a:spcPct val="100000"/>
              </a:lnSpc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61880">
              <a:lnSpc>
                <a:spcPct val="100000"/>
              </a:lnSpc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2. Perangkat terminal untuk beberapa lokasi kantor kepolis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61880">
              <a:lnSpc>
                <a:spcPct val="100000"/>
              </a:lnSpc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3.  Perangkat untuk jaringan komp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5040" y="762120"/>
            <a:ext cx="43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UPPORT DARI PT TELK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06480" y="1957320"/>
            <a:ext cx="42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T Telkom akan membantu dalam hal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10666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NCANA PEMBANGUNAN APLIK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7720" y="2313000"/>
            <a:ext cx="71629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692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92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1. Diskusi dengan Polda Sumbar ( Polresta Padang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92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Untuk resource dan user requirement  (+/- 7 hari), meliputi :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92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a. Struktur Organisas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92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b. Penentuan modul/field masing-masing mod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92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. Hirarkhi operasional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92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d. Satuan tug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92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92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2. Pembangunan prototype aplikasi ( 3 bul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88200" y="1905120"/>
            <a:ext cx="478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. TAHAP PEMBANGUNAN APLIKA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461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61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3. Penyediaan perangkat dan instalasi (3 bul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61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a.Terminal (PC) 12 unit dan mod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61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b.Server satu un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61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61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4. Field t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61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61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5. Evaluasi/Modifika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61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61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6. Implementa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533520" y="990720"/>
            <a:ext cx="6248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. TAHAP PEMBANGUNAN APLIKASI (Lanjutan 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Berita Kepolisian (Hot New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Modul Operasi (Sabara; Inteligent; Brimob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Modul Curas (Pencurian dan kekerasan), Kriminal dan Per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Modul Kecelak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Modul Logistik &amp; Keuang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Modul Person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Modul Layanan (SIM, STNK, BB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Modul BI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D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295280"/>
            <a:ext cx="640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. RENCANA MODUL OPERASIONAL KEPOLIS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1523880" y="2057400"/>
            <a:ext cx="4938840" cy="3612960"/>
            <a:chOff x="1523880" y="2057400"/>
            <a:chExt cx="4938840" cy="3612960"/>
          </a:xfrm>
        </p:grpSpPr>
        <p:sp>
          <p:nvSpPr>
            <p:cNvPr id="58" name=""/>
            <p:cNvSpPr/>
            <p:nvPr/>
          </p:nvSpPr>
          <p:spPr>
            <a:xfrm>
              <a:off x="1523880" y="3659400"/>
              <a:ext cx="731520" cy="27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Times New Roman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712600" y="2470680"/>
              <a:ext cx="731520" cy="2651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Times New Roman"/>
                </a:rPr>
                <a:t>PST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816440" y="3019320"/>
              <a:ext cx="1554840" cy="27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Times New Roman"/>
                </a:rPr>
                <a:t>KAPOLRESTA (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816440" y="5396400"/>
              <a:ext cx="1646280" cy="27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Times New Roman"/>
                </a:rPr>
                <a:t>UMU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2255400" y="2715840"/>
              <a:ext cx="2560680" cy="100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16440" y="2057400"/>
              <a:ext cx="1554840" cy="36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Times New Roman"/>
                </a:rPr>
                <a:t>KAPOLDA (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16440" y="4939200"/>
              <a:ext cx="1554840" cy="27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Times New Roman"/>
                </a:rPr>
                <a:t>KAPOLSEK (6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16440" y="2562120"/>
              <a:ext cx="1554840" cy="27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Times New Roman"/>
                </a:rPr>
                <a:t>ASISTEN OPERASI (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2255400" y="2230200"/>
              <a:ext cx="2560680" cy="146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2255400" y="3201840"/>
              <a:ext cx="2560680" cy="54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2255400" y="3510360"/>
              <a:ext cx="2560680" cy="27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816440" y="3385080"/>
              <a:ext cx="1554840" cy="27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Times New Roman"/>
                </a:rPr>
                <a:t>SATLANTAS (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16440" y="3842280"/>
              <a:ext cx="1554840" cy="27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Times New Roman"/>
                </a:rPr>
                <a:t>BIMAS (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16440" y="4207680"/>
              <a:ext cx="1554840" cy="27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Times New Roman"/>
                </a:rPr>
                <a:t>SABA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816440" y="4573440"/>
              <a:ext cx="1554840" cy="27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Times New Roman"/>
                </a:rPr>
                <a:t>BRIMO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55400" y="3779280"/>
              <a:ext cx="256068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5400" y="3817440"/>
              <a:ext cx="2560680" cy="54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55400" y="3845880"/>
              <a:ext cx="256068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255400" y="3884040"/>
              <a:ext cx="2560680" cy="118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074600" y="1219320"/>
            <a:ext cx="554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. RENCANA KONFIGURASI SI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90920" y="3124080"/>
            <a:ext cx="3733560" cy="1747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883240" y="1362240"/>
            <a:ext cx="28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ERIMA KASI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Windows98</cp:lastModifiedBy>
  <cp:lastPrinted>2001-11-26T05:22:12Z</cp:lastPrinted>
  <dcterms:modified xsi:type="dcterms:W3CDTF">2001-11-26T09:08:01Z</dcterms:modified>
  <cp:revision>13</cp:revision>
  <dc:subject/>
  <dc:title>No Slide Title</dc:title>
</cp:coreProperties>
</file>