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8B0-DB6C-4D03-B06C-2DB5170B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3F5-8E50-4900-85B4-AEBDC0B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3F4-0F5D-43F1-BB02-C76AA37E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6CD-D0FF-4E9C-9DE1-28E42D76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052-91E1-40B8-84DB-2F987123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5E5-2FF6-4566-A8C0-7DA3297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79C-8FCF-41E1-8935-4BBC6A0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6EE-54B0-4EB0-A85A-7A9393DA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D09-F6E3-443F-9DAF-B3C90C64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181-7FDA-4CFC-A481-DFAED1F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91D-ED95-47C9-8A6F-BB03A33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225-EBDF-4576-9DAA-7EC66B7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716-E167-45E4-9284-2B1FE2A93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NGEMBANG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-POL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RESTA PAD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TAR BELA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rtisipasi PT.Telkom dalam Pembangunan nasional, salah satunya yaitu membangun prototype sistim informa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mbangunan Sistim Informasi dilakukan astas kerjasama antara PT.Telkom (Divre I) dan institusi yang melaksanakan penelitian (Universit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105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buClr>
                <a:srgbClr val="3333cc"/>
              </a:buClr>
              <a:buFont typeface="Bookshelf Symbol 4" charset="2"/>
              <a:buChar char="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ningkatkan kerjasama antara PT.Telkom (Divre I Sumatra)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ngan Instan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6120" y="4343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UJUA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Perangkat Server untuk Basis data  (satu unit Serv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rangkat terminal untuk beberapa lokasi kantor kepoli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 Perangkat untuk jaringan 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7621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PPORT DARI PT TELK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6480" y="19573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T Telkom akan membantu dalam h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NCANA PEMBANGUNAN APLIK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23130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Diskusi dengan Polda Sumbar ( Polresta Padan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ntuk resource dan user requirement  (+/- 7 hari), meliputi :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Struktur Organis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 Penentuan modul/field masing-masing mod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. Hirarkhi operasiona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. Satuan tu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mbangunan prototype aplikasi ( 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8200" y="19051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Penyediaan perangkat dan instalasi (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Terminal (PC) 12 unit dan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Server satu 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. Field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 Evaluasi/Modifik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6. Implemen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9907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 (Lanjutan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rita Kepolisian (Hot Ne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Operasi (Sabara; Inteligent; Brimo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Curas (Pencurian dan kekerasan), Kriminal dan Per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Kecela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ogistik &amp; Ke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Perso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ayanan (SIM, STNK, BB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B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. RENCANA MODUL OPERASIONAL KEPOL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3880" y="2057400"/>
            <a:ext cx="4938840" cy="3612960"/>
            <a:chOff x="1523880" y="2057400"/>
            <a:chExt cx="4938840" cy="3612960"/>
          </a:xfrm>
        </p:grpSpPr>
        <p:sp>
          <p:nvSpPr>
            <p:cNvPr id="58" name=""/>
            <p:cNvSpPr/>
            <p:nvPr/>
          </p:nvSpPr>
          <p:spPr>
            <a:xfrm>
              <a:off x="1523880" y="3659400"/>
              <a:ext cx="73152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600" y="2470680"/>
              <a:ext cx="731520" cy="265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16440" y="30193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RESTA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16440" y="5396400"/>
              <a:ext cx="164628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255400" y="2715840"/>
              <a:ext cx="25606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16440" y="2057400"/>
              <a:ext cx="15548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DA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16440" y="493920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SEK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16440" y="25621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ASISTEN OPERASI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255400" y="2230200"/>
              <a:ext cx="2560680" cy="14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255400" y="32018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255400" y="3510360"/>
              <a:ext cx="25606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16440" y="33850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TLANT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6440" y="38422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IM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42076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B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6440" y="457344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RIM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5400" y="3779280"/>
              <a:ext cx="2560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5400" y="38174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5400" y="3845880"/>
              <a:ext cx="2560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55400" y="3884040"/>
              <a:ext cx="25606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4600" y="121932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 RENCANA KONFIGURAS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733560" cy="174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83240" y="136224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RIMA KAS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Windows98</cp:lastModifiedBy>
  <cp:lastPrinted>2001-11-26T05:22:12Z</cp:lastPrinted>
  <dcterms:modified xsi:type="dcterms:W3CDTF">2001-11-26T09:08:01Z</dcterms:modified>
  <cp:revision>13</cp:revision>
  <dc:subject/>
  <dc:title>No Slide Title</dc:title>
</cp:coreProperties>
</file>